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chimes.wav" ContentType="audio/x-wav"/>
  <Override PartName="/ppt/media/image7.png" ContentType="image/png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T+P4U-transparentwhitebkgrd" descr=""/>
          <p:cNvPicPr/>
          <p:nvPr/>
        </p:nvPicPr>
        <p:blipFill>
          <a:blip r:embed="rId2"/>
          <a:stretch/>
        </p:blipFill>
        <p:spPr>
          <a:xfrm>
            <a:off x="8731080" y="3279600"/>
            <a:ext cx="297000" cy="352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990720" y="533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How Science wor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914400" y="1628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Verdana"/>
              </a:rPr>
              <a:t>Taking</a:t>
            </a:r>
            <a:br>
              <a:rPr sz="5400"/>
            </a:br>
            <a:r>
              <a:rPr b="1" lang="en-US" sz="5400" spc="-1" strike="noStrike">
                <a:solidFill>
                  <a:srgbClr val="009900"/>
                </a:solidFill>
                <a:latin typeface="Verdana"/>
              </a:rPr>
              <a:t>measure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533520"/>
            <a:ext cx="4038840" cy="1828800"/>
          </a:xfrm>
          <a:prstGeom prst="cloudCallout">
            <a:avLst>
              <a:gd name="adj1" fmla="val -10118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7240" y="68580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ccura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recis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…sound the same th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rofM-fromTechSetTIFF+Transparent" descr=""/>
          <p:cNvPicPr/>
          <p:nvPr/>
        </p:nvPicPr>
        <p:blipFill>
          <a:blip r:embed="rId1"/>
          <a:stretch/>
        </p:blipFill>
        <p:spPr>
          <a:xfrm>
            <a:off x="498600" y="1828800"/>
            <a:ext cx="3208320" cy="4629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19720" y="2006640"/>
            <a:ext cx="3962160" cy="2108160"/>
          </a:xfrm>
          <a:prstGeom prst="cloudCallout">
            <a:avLst>
              <a:gd name="adj1" fmla="val -97995"/>
              <a:gd name="adj2" fmla="val -2289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73520" y="2349360"/>
            <a:ext cx="3200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is there a difference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4419720"/>
            <a:ext cx="762120" cy="457200"/>
          </a:xfrm>
          <a:prstGeom prst="rect">
            <a:avLst/>
          </a:prstGeom>
          <a:solidFill>
            <a:srgbClr val="9e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4978440"/>
            <a:ext cx="1559160" cy="457200"/>
          </a:xfrm>
          <a:prstGeom prst="rect">
            <a:avLst/>
          </a:prstGeom>
          <a:solidFill>
            <a:srgbClr val="ffc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13200" y="3073320"/>
            <a:ext cx="1558800" cy="457200"/>
          </a:xfrm>
          <a:prstGeom prst="rect">
            <a:avLst/>
          </a:prstGeom>
          <a:solidFill>
            <a:srgbClr val="9e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2960" y="1612800"/>
            <a:ext cx="1558800" cy="457200"/>
          </a:xfrm>
          <a:prstGeom prst="rect">
            <a:avLst/>
          </a:prstGeom>
          <a:solidFill>
            <a:srgbClr val="9e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57200"/>
            <a:ext cx="85345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  :  </a:t>
            </a: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 your experiments, you need to consider the accuracy of your measuring instr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1337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4951440"/>
            <a:ext cx="708660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 is also likely to be more sensitiv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it will respond to smaller changes in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1287360" cy="2671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14400" y="2616120"/>
            <a:ext cx="58672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 expensive thermome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s likely to be more accu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an a cheap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962520"/>
            <a:ext cx="51814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 will give a result nearer to the tru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480" y="2438280"/>
            <a:ext cx="1333440" cy="45720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25760"/>
            <a:ext cx="1676520" cy="45720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8280" y="1168560"/>
            <a:ext cx="1558800" cy="457200"/>
          </a:xfrm>
          <a:prstGeom prst="rect">
            <a:avLst/>
          </a:prstGeom>
          <a:solidFill>
            <a:srgbClr val="c6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s well as accurac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precision is also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433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wis721 Md BT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37816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precise instrument gi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consistent rea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en it is used repeated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or the same measu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57200"/>
            <a:ext cx="85345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eb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  :  </a:t>
            </a: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For example,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 2 bal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95560" y="3962520"/>
            <a:ext cx="1168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95560" y="2173320"/>
            <a:ext cx="1168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4762440"/>
            <a:ext cx="1676520" cy="45720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227720" y="1565280"/>
            <a:ext cx="1459080" cy="949320"/>
            <a:chOff x="7227720" y="1565280"/>
            <a:chExt cx="1459080" cy="9493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7227720" y="1565280"/>
              <a:ext cx="11541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059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721 Md BT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69240" y="3048120"/>
            <a:ext cx="1488960" cy="925560"/>
            <a:chOff x="6969240" y="3048120"/>
            <a:chExt cx="1488960" cy="9255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6969240" y="3048120"/>
              <a:ext cx="11080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80773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721 Md BT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219320"/>
            <a:ext cx="6095880" cy="99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beaker is weighed on A,  3 ti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adings are: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73 g,  77 g,  71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971800"/>
            <a:ext cx="60958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 is then weighed on B,  3 ti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adings are: 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75 g,  73 g,  74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the Rang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3911760"/>
            <a:ext cx="1143000" cy="520560"/>
            <a:chOff x="3886200" y="3911760"/>
            <a:chExt cx="1143000" cy="520560"/>
          </a:xfrm>
        </p:grpSpPr>
        <p:sp>
          <p:nvSpPr>
            <p:cNvPr id="135" name=""/>
            <p:cNvSpPr/>
            <p:nvPr/>
          </p:nvSpPr>
          <p:spPr>
            <a:xfrm>
              <a:off x="3886200" y="39117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wis721 Md BT"/>
                </a:rPr>
                <a:t>= 2 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3400" y="4419720"/>
              <a:ext cx="533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86200" y="2136600"/>
            <a:ext cx="1143000" cy="520560"/>
            <a:chOff x="3886200" y="2136600"/>
            <a:chExt cx="1143000" cy="520560"/>
          </a:xfrm>
        </p:grpSpPr>
        <p:sp>
          <p:nvSpPr>
            <p:cNvPr id="138" name=""/>
            <p:cNvSpPr/>
            <p:nvPr/>
          </p:nvSpPr>
          <p:spPr>
            <a:xfrm>
              <a:off x="3886200" y="21366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wis721 Md BT"/>
                </a:rPr>
                <a:t>= 6 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2630520"/>
              <a:ext cx="533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914400" y="47242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Balance B has better pr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5257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s readings are grouped closer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57200"/>
            <a:ext cx="85345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eb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finitions  :  </a:t>
            </a: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1477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the Rang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gradFill rotWithShape="0">
            <a:gsLst>
              <a:gs pos="0">
                <a:srgbClr val="d6adff"/>
              </a:gs>
              <a:gs pos="100000">
                <a:srgbClr val="c6f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US" sz="3200" spc="-1" strike="noStrike">
                <a:solidFill>
                  <a:srgbClr val="808080"/>
                </a:solidFill>
                <a:latin typeface="Swis721 Md BT"/>
              </a:rPr>
              <a:t>compared with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295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uppose you are measuring the leng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of a wooden b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09680"/>
            <a:ext cx="4191120" cy="457200"/>
            <a:chOff x="838080" y="2209680"/>
            <a:chExt cx="4191120" cy="457200"/>
          </a:xfrm>
        </p:grpSpPr>
        <p:sp>
          <p:nvSpPr>
            <p:cNvPr id="147" name=""/>
            <p:cNvSpPr/>
            <p:nvPr/>
          </p:nvSpPr>
          <p:spPr>
            <a:xfrm>
              <a:off x="990720" y="2514600"/>
              <a:ext cx="4038480" cy="15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2209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wis721 Md BT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90720" y="3657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length has a tru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95680" y="2692440"/>
            <a:ext cx="1143000" cy="1043280"/>
            <a:chOff x="4495680" y="2692440"/>
            <a:chExt cx="1143000" cy="1043280"/>
          </a:xfrm>
        </p:grpSpPr>
        <p:sp>
          <p:nvSpPr>
            <p:cNvPr id="151" name=""/>
            <p:cNvSpPr/>
            <p:nvPr/>
          </p:nvSpPr>
          <p:spPr>
            <a:xfrm>
              <a:off x="4495680" y="3044880"/>
              <a:ext cx="114300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Swis721 Md BT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Swis721 Md BT"/>
                </a:rPr>
                <a:t>val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29200" y="269244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35640" y="205740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205740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205740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334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Let’s look at 3 cas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2670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we can take </a:t>
            </a:r>
            <a:r>
              <a:rPr b="0" lang="en-US" sz="2800" spc="-1" strike="noStrike">
                <a:solidFill>
                  <a:srgbClr val="ff0080"/>
                </a:solidFill>
                <a:latin typeface="Swis721 Md BT"/>
              </a:rPr>
              <a:t>measurements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of the length,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248520" y="5181480"/>
            <a:ext cx="1218960" cy="45720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42000" y="1257480"/>
            <a:ext cx="1219320" cy="45720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495680"/>
            <a:ext cx="1460520" cy="457200"/>
          </a:xfrm>
          <a:prstGeom prst="rect">
            <a:avLst/>
          </a:prstGeom>
          <a:solidFill>
            <a:srgbClr val="c6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6800" y="2793960"/>
            <a:ext cx="1460520" cy="457200"/>
          </a:xfrm>
          <a:prstGeom prst="rect">
            <a:avLst/>
          </a:prstGeom>
          <a:solidFill>
            <a:srgbClr val="c6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gradFill rotWithShape="0">
            <a:gsLst>
              <a:gs pos="0">
                <a:srgbClr val="d6adff"/>
              </a:gs>
              <a:gs pos="100000">
                <a:srgbClr val="c6f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US" sz="3200" spc="-1" strike="noStrike">
                <a:solidFill>
                  <a:srgbClr val="808080"/>
                </a:solidFill>
                <a:latin typeface="Swis721 Md BT"/>
              </a:rPr>
              <a:t>compared with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Swis721 Md BT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38080" y="1447920"/>
            <a:ext cx="4572000" cy="1355040"/>
            <a:chOff x="838080" y="1447920"/>
            <a:chExt cx="4572000" cy="1355040"/>
          </a:xfrm>
        </p:grpSpPr>
        <p:sp>
          <p:nvSpPr>
            <p:cNvPr id="165" name=""/>
            <p:cNvSpPr/>
            <p:nvPr/>
          </p:nvSpPr>
          <p:spPr>
            <a:xfrm>
              <a:off x="990720" y="1752480"/>
              <a:ext cx="3809880" cy="15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1447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wis721 Md BT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080" y="228276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Swis721 Md BT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Swis721 Md BT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00600" y="1929960"/>
              <a:ext cx="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40560" y="12952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2952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2952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80240" y="12952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38080" y="2971800"/>
            <a:ext cx="3962520" cy="863640"/>
            <a:chOff x="838080" y="2971800"/>
            <a:chExt cx="3962520" cy="863640"/>
          </a:xfrm>
        </p:grpSpPr>
        <p:sp>
          <p:nvSpPr>
            <p:cNvPr id="174" name=""/>
            <p:cNvSpPr/>
            <p:nvPr/>
          </p:nvSpPr>
          <p:spPr>
            <a:xfrm>
              <a:off x="990720" y="3276720"/>
              <a:ext cx="380988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2971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wis721 Md BT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800600" y="34545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57800" y="281952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281952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81952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281952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38080" y="4648320"/>
            <a:ext cx="3962520" cy="863280"/>
            <a:chOff x="838080" y="4648320"/>
            <a:chExt cx="3962520" cy="863280"/>
          </a:xfrm>
        </p:grpSpPr>
        <p:sp>
          <p:nvSpPr>
            <p:cNvPr id="182" name=""/>
            <p:cNvSpPr/>
            <p:nvPr/>
          </p:nvSpPr>
          <p:spPr>
            <a:xfrm>
              <a:off x="990720" y="4952880"/>
              <a:ext cx="3809880" cy="152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080" y="4648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wis721 Md BT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800600" y="5130360"/>
              <a:ext cx="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876920" y="44956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44956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44956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4495680"/>
            <a:ext cx="0" cy="1143000"/>
          </a:xfrm>
          <a:prstGeom prst="line">
            <a:avLst/>
          </a:prstGeom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295280"/>
            <a:ext cx="1981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Precise (grouped) but not acc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2819520"/>
            <a:ext cx="1981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Accurate (the mean) but not pre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535640"/>
            <a:ext cx="167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Accurate and Pre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1905120"/>
            <a:ext cx="754380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8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meaning of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variatio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range’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8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How to calculate the 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(or 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why this improves the 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of your resul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149"/>
              </a:spcBef>
              <a:buClr>
                <a:srgbClr val="ff0066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difference between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accuracy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4880" y="59220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wis721 Md BT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now underst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62120" y="2252520"/>
            <a:ext cx="76960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8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bout taking measurem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8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meaning of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variatio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,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mean (average)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8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meaning of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accuracy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 and ‘</a:t>
            </a:r>
            <a:r>
              <a:rPr b="0" lang="en-US" sz="2800" spc="-1" strike="noStrike">
                <a:solidFill>
                  <a:srgbClr val="0000cc"/>
                </a:solidFill>
                <a:latin typeface="Swis721 Md BT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19000" y="609480"/>
            <a:ext cx="5105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wis721 Md BT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lear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0000" y="3911760"/>
            <a:ext cx="7621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778040"/>
            <a:ext cx="15238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king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2952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en you take measur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re may be some var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 the rea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59600" y="914400"/>
            <a:ext cx="1398600" cy="243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34290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f you time the fall of a paper parachute over a fixed distance, the times may vary sligh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495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 s,   10.2 s,   9.9 s,  10.0 s,  10.3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Let’s look at these results more clo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32640" y="2362320"/>
            <a:ext cx="8856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93960" y="2616120"/>
            <a:ext cx="11685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king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29528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sults w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 s,   10.2 s,   9.9 s,  10.0 s,  10.3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at is the Range of these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arachute" descr=""/>
          <p:cNvPicPr/>
          <p:nvPr/>
        </p:nvPicPr>
        <p:blipFill>
          <a:blip r:embed="rId1"/>
          <a:stretch/>
        </p:blipFill>
        <p:spPr>
          <a:xfrm>
            <a:off x="7059600" y="914400"/>
            <a:ext cx="1398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69160" y="1968480"/>
            <a:ext cx="10666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3480" y="1968480"/>
            <a:ext cx="10666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6240" y="4457880"/>
            <a:ext cx="11685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king measurements : 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2952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sults w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 s,   10.2 s,   9.9 s,  10.0 s,  10.3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arachute" descr=""/>
          <p:cNvPicPr/>
          <p:nvPr/>
        </p:nvPicPr>
        <p:blipFill>
          <a:blip r:embed="rId1"/>
          <a:stretch/>
        </p:blipFill>
        <p:spPr>
          <a:xfrm>
            <a:off x="7059600" y="914400"/>
            <a:ext cx="139860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3429000" y="2361960"/>
            <a:ext cx="457200" cy="99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86400" y="2361960"/>
            <a:ext cx="76212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8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the maximum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419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= max –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68960" y="4419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= 10.3 – 9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4197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= 0.4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876920"/>
            <a:ext cx="8380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14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Find the minimum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68760" y="2616120"/>
            <a:ext cx="1091880" cy="45720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2616120"/>
            <a:ext cx="1397160" cy="45720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5ff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king measurements : 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2952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sults w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 s,   10.2 s,   9.9 s,  10.0 s,  10.3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arachute" descr=""/>
          <p:cNvPicPr/>
          <p:nvPr/>
        </p:nvPicPr>
        <p:blipFill>
          <a:blip r:embed="rId1"/>
          <a:stretch/>
        </p:blipFill>
        <p:spPr>
          <a:xfrm>
            <a:off x="7059600" y="914400"/>
            <a:ext cx="1398600" cy="2438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2558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at is the mean (or averag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of these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76240" y="4648320"/>
            <a:ext cx="1015920" cy="45720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648320"/>
            <a:ext cx="1397160" cy="45720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5ff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king measurements : 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2952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sults w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 s,   10.2 s,   9.9 s,  10.0 s,  10.3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arachute" descr=""/>
          <p:cNvPicPr/>
          <p:nvPr/>
        </p:nvPicPr>
        <p:blipFill>
          <a:blip r:embed="rId1"/>
          <a:stretch/>
        </p:blipFill>
        <p:spPr>
          <a:xfrm>
            <a:off x="7059600" y="914400"/>
            <a:ext cx="1398600" cy="243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2558880"/>
            <a:ext cx="67057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dd up the 5 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+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2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+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9.9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+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0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+</a:t>
            </a: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3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= 5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re are 5 items,  so divide by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Mean (or average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62520" y="4400640"/>
            <a:ext cx="1600200" cy="1383120"/>
            <a:chOff x="3962520" y="4400640"/>
            <a:chExt cx="1600200" cy="1383120"/>
          </a:xfrm>
        </p:grpSpPr>
        <p:sp>
          <p:nvSpPr>
            <p:cNvPr id="83" name=""/>
            <p:cNvSpPr/>
            <p:nvPr/>
          </p:nvSpPr>
          <p:spPr>
            <a:xfrm>
              <a:off x="3962520" y="4400640"/>
              <a:ext cx="1600200" cy="138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30000">
                  <a:solidFill>
                    <a:srgbClr val="000000"/>
                  </a:solidFill>
                  <a:latin typeface="Swis721 Md BT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Swis721 Md BT"/>
                </a:rPr>
                <a:t>  50.5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Swis721 Md BT"/>
                </a:rPr>
                <a:t>       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1720" y="49150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715000" y="4591080"/>
            <a:ext cx="1676520" cy="520560"/>
            <a:chOff x="5715000" y="4591080"/>
            <a:chExt cx="1676520" cy="520560"/>
          </a:xfrm>
        </p:grpSpPr>
        <p:sp>
          <p:nvSpPr>
            <p:cNvPr id="86" name=""/>
            <p:cNvSpPr/>
            <p:nvPr/>
          </p:nvSpPr>
          <p:spPr>
            <a:xfrm>
              <a:off x="6191280" y="5048280"/>
              <a:ext cx="9907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15000" y="45910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wis721 Md BT"/>
                </a:rPr>
                <a:t>= 10.1 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716360" y="3657600"/>
            <a:ext cx="1600200" cy="457200"/>
          </a:xfrm>
          <a:prstGeom prst="rect">
            <a:avLst/>
          </a:prstGeom>
          <a:solidFill>
            <a:srgbClr val="d8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3035160"/>
            <a:ext cx="1015920" cy="45720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6040" y="4724280"/>
            <a:ext cx="1397160" cy="457200"/>
          </a:xfrm>
          <a:prstGeom prst="rect">
            <a:avLst/>
          </a:prstGeom>
          <a:solidFill>
            <a:srgbClr val="d8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5ff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king measurements : 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52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results w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wis721 Md BT"/>
              </a:rPr>
              <a:t>10.1 s,   10.2 s,   9.9 s,  10.0 s,  10.3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59600" y="914400"/>
            <a:ext cx="139860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2558880"/>
            <a:ext cx="6705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y is it a good idea to calcul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mean of you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Because it improves the reliability of your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r results will be more rel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14479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s721 Md BT"/>
              </a:rPr>
              <a:t>Accurac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8862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s721 Md BT"/>
              </a:rPr>
              <a:t>Prec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6668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s721 Md BT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00:01Z</dcterms:created>
  <dc:creator>Keith Johnson   keith@timetabler.com    (c) 2006</dc:creator>
  <dc:description/>
  <cp:keywords>How Science works Range Mean Accuracy Precision</cp:keywords>
  <dc:language>en-US</dc:language>
  <cp:lastModifiedBy>sthemmingi</cp:lastModifiedBy>
  <dcterms:modified xsi:type="dcterms:W3CDTF">2006-07-12T08:38:11Z</dcterms:modified>
  <cp:revision>317</cp:revision>
  <dc:subject>How Science works: Range, Mean, Accuracy, Precision</dc:subject>
  <dc:title>How Science works : Taking measurements</dc:title>
</cp:coreProperties>
</file>